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8E3-0A85-4AD9-AB32-630DF9AA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5B5-4549-4936-878F-213789D3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F3E-1524-41B9-8E6E-298EAD75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AD9-E403-4EA9-BF3B-D0C799FA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73E-2F7F-4C7F-B7DA-4C20FA88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BC9-57D9-471B-8135-76105E4D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82C-799F-4C3D-B750-B856113A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06C-C9D8-48B0-AE12-9CBA3515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633-EAAE-40E5-B6ED-0A11142D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D61-C57A-4168-98F1-D3F0AA4E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095-11B5-43CE-A83D-D3DE744F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226-4D43-4270-9EFB-09E17F9D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7F64-2B22-441B-9BBE-C6FDB852B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computerlab.wikispaces.com/Internet+Safety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cflearnfree.org/internet101/1.2" TargetMode="External"/><Relationship Id="rId2" Type="http://schemas.openxmlformats.org/officeDocument/2006/relationships/hyperlink" Target="http://www.gcflearnfree.org/internetsafety/1.3" TargetMode="External"/><Relationship Id="rId3" Type="http://schemas.openxmlformats.org/officeDocument/2006/relationships/hyperlink" Target="http://www.gcflearnfree.org/internetsafety/1.3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and Dismiss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ing- Typing I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ke sure your username has grade number-letter and your first and last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afety- Tracking There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522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Aug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afety c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rnet Today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mon Internet Safet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ivacy Related Safet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 TechKnow (Review Parts I and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33520" y="30492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6:25:48Z</dcterms:created>
  <dc:creator>dcomputerlab</dc:creator>
  <dc:description/>
  <dc:language>en-US</dc:language>
  <cp:lastModifiedBy>Dawson</cp:lastModifiedBy>
  <dcterms:modified xsi:type="dcterms:W3CDTF">2011-08-30T03:47:41Z</dcterms:modified>
  <cp:revision>10</cp:revision>
  <dc:subject/>
  <dc:title>August</dc:title>
</cp:coreProperties>
</file>